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AB2B5-08A2-4C9C-9072-AC7F9295C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4522C-B859-4824-B2C0-5FFA4CDB2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E2240-1402-4D17-AC8A-E7338C38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DBE26B-1C31-480F-99D5-920F78AA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162F-510F-4792-8809-D8DD0430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7AD19-A3A7-4EE8-AAD4-24615799C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664FE-CCE2-4673-940D-6969EB14D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012DF-D898-4057-801D-3672E0F0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325B-3C85-417A-A608-153945C56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6352-1B7A-41F3-9BC1-C01D79C84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1320-6CEB-46BF-A0D5-049C0AD3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00A45-6512-4797-BADF-A59EF8B69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F6FAA-1D00-4D63-8287-13E123248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CA507-BC58-45FD-B44E-F8150905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551F-915E-4592-9600-6EFAB41B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7F16-F3C9-4ABB-8799-CD95927C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432D8-EEAF-4FAE-A2A4-5EAA4F2A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F9623-BE44-41EB-A7BA-EE55F06D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DE82B-446F-41B2-B5A9-7BBBC81F1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35F10B-5F91-439B-AE68-C50563D71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409E-9203-41EA-A80D-6756654CA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EC086-C9A1-4664-BF72-423DB3D2B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238BD-5890-4A7C-BF51-8B787B9C2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FC880-3B91-44E2-A014-F4C62445F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DE98-0028-4668-A2AF-FDBE1F3EDA31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84E5-4E9F-47CC-88EA-CD743528BFB5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730950&amp;memlevel=C&amp;a=c&amp;q=disabled%20man&amp;s=1&amp;e=30&amp;show=all&amp;c=&amp;cid=&amp;findincat=&amp;g=&amp;cc=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341542&amp;memlevel=C&amp;a=c&amp;q=handicapped&amp;s=91&amp;e=106&amp;show=all&amp;c=&amp;cid=&amp;findincat=&amp;g=&amp;cc=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297738&amp;memlevel=C&amp;a=c&amp;q=handicapped&amp;s=91&amp;e=106&amp;show=all&amp;c=&amp;cid=&amp;findincat=&amp;g=&amp;cc=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786&amp;memlevel=B&amp;a=c&amp;q=handicapped&amp;s=61&amp;e=90&amp;show=all&amp;c=&amp;cid=&amp;findincat=&amp;g=&amp;cc=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lipart.com/en/close-up?o=902048&amp;memlevel=C&amp;a=c&amp;q=handicapped&amp;s=31&amp;e=60&amp;show=all&amp;c=&amp;cid=&amp;findincat=&amp;g=&amp;cc=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BU20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Disability    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(A)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3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五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7:1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  北京四中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143000" y="870120"/>
            <a:ext cx="731520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0" y="2057400"/>
            <a:ext cx="446400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152360" y="946080"/>
            <a:ext cx="7458120" cy="54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o is the 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y did he come to China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Does he need special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equipment to help him g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round?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ckground introduction</a:t>
            </a:r>
            <a:br>
              <a:rPr sz="48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2895480" y="2362320"/>
            <a:ext cx="3140280" cy="378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Hawking_2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00400" y="685800"/>
            <a:ext cx="2682720" cy="309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62120" y="3732840"/>
            <a:ext cx="7813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  <a:ea typeface="Times New Roman"/>
              </a:rPr>
              <a:t>Stephen Hawking was born on 8 January 1942, the 300th anniversary of Galileo's death. He is considered as the greatest mind in physics since Albert Einste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3" descr="Stephen Hawking"/>
          <p:cNvPicPr/>
          <p:nvPr/>
        </p:nvPicPr>
        <p:blipFill>
          <a:blip r:embed="rId1"/>
          <a:stretch/>
        </p:blipFill>
        <p:spPr>
          <a:xfrm>
            <a:off x="1676520" y="9144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1525320"/>
            <a:ext cx="64818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59 won a scholarship to Oxford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University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                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1962 went to Cambridge 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University  for a PhD in 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cosmology.                         1968 published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Large Scale 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	</a:t>
            </a:r>
            <a:r>
              <a:rPr b="1" i="1" lang="en-US" sz="2800" spc="-1" strike="noStrike">
                <a:solidFill>
                  <a:srgbClr val="ffff66"/>
                </a:solidFill>
                <a:latin typeface="Tahoma"/>
                <a:ea typeface="Times New Roman"/>
              </a:rPr>
              <a:t>Structure of Space-Time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pic1" descr="Stephen Hawking"/>
          <p:cNvPicPr/>
          <p:nvPr/>
        </p:nvPicPr>
        <p:blipFill>
          <a:blip r:embed="rId2"/>
          <a:stretch/>
        </p:blipFill>
        <p:spPr>
          <a:xfrm>
            <a:off x="6553080" y="39625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486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68440" y="13716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3" descr="Stephen Hawking"/>
          <p:cNvPicPr/>
          <p:nvPr/>
        </p:nvPicPr>
        <p:blipFill>
          <a:blip r:embed="rId1"/>
          <a:stretch/>
        </p:blipFill>
        <p:spPr>
          <a:xfrm>
            <a:off x="1447920" y="1219320"/>
            <a:ext cx="1512720" cy="1512720"/>
          </a:xfrm>
          <a:prstGeom prst="rect">
            <a:avLst/>
          </a:prstGeom>
          <a:ln w="0">
            <a:noFill/>
          </a:ln>
        </p:spPr>
      </p:pic>
      <p:pic>
        <p:nvPicPr>
          <p:cNvPr id="125" name="pic1" descr="Stephen Hawking"/>
          <p:cNvPicPr/>
          <p:nvPr/>
        </p:nvPicPr>
        <p:blipFill>
          <a:blip r:embed="rId2"/>
          <a:stretch/>
        </p:blipFill>
        <p:spPr>
          <a:xfrm>
            <a:off x="6324480" y="4191120"/>
            <a:ext cx="1476360" cy="14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0" y="4648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39840" y="1600200"/>
            <a:ext cx="328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Main event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3124080"/>
            <a:ext cx="5943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1975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received the Albert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Einstein Award in the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oretical physic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988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wrote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A Brief Hist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         </a:t>
            </a:r>
            <a:r>
              <a:rPr b="0" i="1" lang="en-US" sz="3200" spc="-1" strike="noStrike">
                <a:solidFill>
                  <a:srgbClr val="ffff66"/>
                </a:solidFill>
                <a:latin typeface="Tahoma"/>
              </a:rPr>
              <a:t>of Ti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4038120"/>
            <a:ext cx="7632720" cy="22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"My goal is simple. It is 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understanding of the universe, w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t is as it is and why it exists at all."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438280" y="990720"/>
            <a:ext cx="4002120" cy="30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38080" y="991800"/>
            <a:ext cx="77043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Stephen Hawking say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81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 try to lead as normal a life as possible, and not think about my condition. My disease has not prevented me from having a very attractive family, and being successful in my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066680" y="1526400"/>
            <a:ext cx="727236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A student of Hawking says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Stephen Hawking is my hero. As I read his ideas about space, time, black holes, and the Universe in which we live, I was amazed at how easily he explained the exciting but often complicated subjects explored in the book.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Tahoma"/>
              </a:rPr>
              <a:t>Unit 20 Disability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2743200" y="2057400"/>
            <a:ext cx="310212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55640" y="1366200"/>
            <a:ext cx="784872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(continued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 is a man so gifted that, despite being unable to use pen and paper, he is able to solve problems by forming the necessary diagrams and manipulating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操作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e complex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equations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（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方程式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n his head.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914400" y="1144080"/>
            <a:ext cx="7781760" cy="44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991800"/>
            <a:ext cx="7705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Stephen Hawking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pic3" descr="Stephen Hawking"/>
          <p:cNvPicPr/>
          <p:nvPr/>
        </p:nvPicPr>
        <p:blipFill>
          <a:blip r:embed="rId1"/>
          <a:srcRect l="4151" t="4151" r="3991" b="3991"/>
          <a:stretch/>
        </p:blipFill>
        <p:spPr>
          <a:xfrm>
            <a:off x="2819520" y="1371600"/>
            <a:ext cx="33526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9280" y="4653000"/>
            <a:ext cx="822348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asking 'Can you hear me‘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t his Stanford Lecture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1219320"/>
            <a:ext cx="45133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42640" y="4724280"/>
            <a:ext cx="75438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tells Einstein, 'Wrong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gain, Albert'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143000"/>
            <a:ext cx="48006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L. van Beethoven"/>
          <p:cNvPicPr/>
          <p:nvPr/>
        </p:nvPicPr>
        <p:blipFill>
          <a:blip r:embed="rId1"/>
          <a:stretch/>
        </p:blipFill>
        <p:spPr>
          <a:xfrm>
            <a:off x="2971800" y="990720"/>
            <a:ext cx="3243240" cy="4248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666880" y="5181480"/>
            <a:ext cx="367344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Beethoven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066680" y="1143360"/>
            <a:ext cx="7272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y did the professor’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voice  sound stran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did he us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ommunicate with other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838080" y="1068120"/>
            <a:ext cx="7705800" cy="48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Basic comprehension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8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What is the name of his book mentioned in our tex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Can disabled people lead a normal life? Give me some exampl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1410480"/>
            <a:ext cx="8209080" cy="41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Useful words &amp; expres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         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2 ,Page 43)</a:t>
            </a:r>
            <a:r>
              <a:rPr b="0" lang="en-US" sz="28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r>
              <a:rPr b="0" lang="zh-CN" sz="2800" spc="-1" strike="noStrike">
                <a:solidFill>
                  <a:srgbClr val="ffff66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pefully tomorrow wil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 fin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Lesson 77-78</a:t>
            </a: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	</a:t>
            </a: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543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Goals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教学目标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a. Getting close to disabled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eople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走近残疾人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. Introduction about Stephen 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wking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介绍史帝文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.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霍金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c. Useful words &amp; expressions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066680" y="762120"/>
            <a:ext cx="75614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urn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prove to be, show the resul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66"/>
                </a:solidFill>
                <a:latin typeface="Times New Roman"/>
              </a:rPr>
              <a:t>证明是；结果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I was afraid the things won’t turn out smooth for you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Do you think the crops will turn out well this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It turned out that he was Jim’s fa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43000" y="1799280"/>
            <a:ext cx="7704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come out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出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e won’t turn ou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foggy weath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Crowds turned out for the procession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游行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62120" y="1722960"/>
            <a:ext cx="77198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turn out: </a:t>
            </a:r>
            <a:r>
              <a:rPr b="1" i="1" lang="en-US" sz="4000" spc="-1" strike="noStrike">
                <a:solidFill>
                  <a:srgbClr val="ffff66"/>
                </a:solidFill>
                <a:latin typeface="Tahoma"/>
              </a:rPr>
              <a:t>produce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制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Our new factory is turning out large quantities of good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school has turned out some first rate schola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804960" y="1676880"/>
            <a:ext cx="7002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4, Page 43) </a:t>
            </a:r>
            <a:r>
              <a:rPr b="0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I’ve always dreamt of com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China, and now my dre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as come tru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066680" y="1141560"/>
            <a:ext cx="746784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ream of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梦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1.The soldier often dreamt of  ho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2. I wouldn’t dream of do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such a th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3. When I was young, I  dreamed of becoming a  soldi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reamer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做梦者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1296360"/>
            <a:ext cx="741672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(Line 9, Page 43)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原文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But I’m determined to enjoy myself as much as possible, even though I can’t see everyth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62120" y="213480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00000"/>
              </a:lnSpc>
              <a:buClr>
                <a:srgbClr val="ffff66"/>
              </a:buClr>
              <a:buFont typeface="Tahoma"/>
              <a:buAutoNum type="arabicPeriod"/>
              <a:tabLst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e won’t leave the TV set even though he is eating his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Even if we could afford it, we would not go abroad for our holiday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266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91880" y="1066680"/>
            <a:ext cx="525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even if /though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66"/>
                </a:solidFill>
                <a:latin typeface="Tahoma"/>
              </a:rPr>
              <a:t>即使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066680" y="1173960"/>
            <a:ext cx="763452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led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(Line 1-2, Page 44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）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原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he case of Professor Stephen Hawking is one example of the many disabled people who have achieved success in their chosen field of wor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371600" y="1828800"/>
            <a:ext cx="6934320" cy="40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unable to use part of your body in the normal way, either from birth or because of an accident or illness </a:t>
            </a:r>
            <a:r>
              <a:rPr b="0" lang="zh-CN" sz="3200" spc="-1" strike="noStrike">
                <a:solidFill>
                  <a:srgbClr val="ffff66"/>
                </a:solidFill>
                <a:latin typeface="Tahoma"/>
              </a:rPr>
              <a:t>残疾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38080" y="990720"/>
            <a:ext cx="7848720" cy="48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Tahoma"/>
              </a:rPr>
              <a:t>disabled </a:t>
            </a:r>
            <a:r>
              <a:rPr b="0" i="1" lang="en-US" sz="3600" spc="-1" strike="noStrike">
                <a:solidFill>
                  <a:srgbClr val="ffff66"/>
                </a:solidFill>
                <a:latin typeface="Tahoma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ffff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assengers ca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ravel free on public transpor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All rooms in the hotel have facilities for the disable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isability 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1371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784872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1. What kind of people can be called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2. What is your attitude towards the disabled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14400" y="1294560"/>
            <a:ext cx="7561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Practi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ahoma"/>
              </a:rPr>
              <a:t>Fill in the blanks with the words given, and pay attention to the form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32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-221292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1478880"/>
            <a:ext cx="7848360" cy="39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___ or when someone is ___ her? Can a deaf person wake up with an alarm clock? A __ person can do all of these, but deaf people need special ___ 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1143000"/>
            <a:ext cx="8001000" cy="44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Devices(</a:t>
            </a:r>
            <a:r>
              <a:rPr b="1" lang="zh-CN" sz="2800" spc="-1" strike="noStrike">
                <a:solidFill>
                  <a:srgbClr val="ffff66"/>
                </a:solidFill>
                <a:latin typeface="Tahoma"/>
              </a:rPr>
              <a:t>设施）</a:t>
            </a:r>
            <a:r>
              <a:rPr b="1" lang="en-US" sz="2800" spc="-1" strike="noStrike">
                <a:solidFill>
                  <a:srgbClr val="ffff66"/>
                </a:solidFill>
                <a:latin typeface="Tahoma"/>
              </a:rPr>
              <a:t>That Help The Dea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ff"/>
                </a:solidFill>
                <a:latin typeface="Tahoma"/>
              </a:rPr>
              <a:t>device, ring; hear; call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ow does a deaf person know when his doorbell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ringing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or when someone is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calling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her? Can a deaf person wake up with an alarm clock? A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hearing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person can do all of these, but deaf people need special </a:t>
            </a:r>
            <a:r>
              <a:rPr b="1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devices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to help the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914400" y="838080"/>
          <a:ext cx="6858000" cy="12002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 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 ____ Device for the deaf helps them talk on the phone. When the phone rings, a light flashes. The person picks up the phone, pu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on the TDD, _____ 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2789280" y="317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14400" y="838080"/>
          <a:ext cx="6858000" cy="100512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type,Telecommunicat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"/>
          <p:cNvSpPr/>
          <p:nvPr/>
        </p:nvSpPr>
        <p:spPr>
          <a:xfrm>
            <a:off x="1066680" y="2329200"/>
            <a:ext cx="7162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elecommunication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Device for the deaf helps them talk on the phone. When the phone rings, a light flashes. The person picks up the phone, puts on the TDD,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d reads the conversation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838080"/>
          <a:ext cx="7010280" cy="120024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20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0" name=""/>
          <p:cNvSpPr/>
          <p:nvPr/>
        </p:nvSpPr>
        <p:spPr>
          <a:xfrm>
            <a:off x="685800" y="2451600"/>
            <a:ext cx="777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____ up to a blaring alarm? Deaf people use ____ clocks. The alarm ____ the pillow. It feels ____</a:t>
            </a:r>
            <a:r>
              <a:rPr b="1" lang="en-US" sz="3200" spc="-1" strike="noStrike">
                <a:solidFill>
                  <a:srgbClr val="ffff66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300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838080"/>
          <a:ext cx="7010280" cy="1150920"/>
        </p:xfrm>
        <a:graphic>
          <a:graphicData uri="http://schemas.openxmlformats.org/drawingml/2006/table">
            <a:tbl>
              <a:tblPr/>
              <a:tblGrid>
                <a:gridCol w="7010280"/>
              </a:tblGrid>
              <a:tr h="1154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Devices(</a:t>
                      </a:r>
                      <a:r>
                        <a:rPr b="1" lang="zh-CN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设施）</a:t>
                      </a:r>
                      <a:r>
                        <a:rPr b="1" lang="en-US" sz="28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That Help The Dea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200" spc="-1" strike="noStrike">
                          <a:solidFill>
                            <a:srgbClr val="ff00ff"/>
                          </a:solidFill>
                          <a:latin typeface="Tahoma"/>
                          <a:ea typeface="Times New Roman"/>
                        </a:rPr>
                        <a:t>shake; like; vibrate; wak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85800" y="2208600"/>
            <a:ext cx="7775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Hat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wak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up to a blaring alarm? Deaf people use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vibrating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clocks. The alarm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shakes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the pillow. It feels </a:t>
            </a:r>
            <a:r>
              <a:rPr b="0" i="1" lang="en-US" sz="3200" spc="-1" strike="noStrike" u="sng">
                <a:solidFill>
                  <a:srgbClr val="ff00ff"/>
                </a:solidFill>
                <a:uFillTx/>
                <a:latin typeface="Tahoma"/>
              </a:rPr>
              <a:t>like</a:t>
            </a:r>
            <a:r>
              <a:rPr b="0" lang="en-US" sz="3200" spc="-1" strike="noStrike">
                <a:solidFill>
                  <a:srgbClr val="ff00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66"/>
                </a:solidFill>
                <a:latin typeface="Tahoma"/>
              </a:rPr>
              <a:t>an earthquake, but it makes us jump out of b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26920" y="364680"/>
            <a:ext cx="7274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Homewor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1. Do Ex.2 on Page 108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2. Make up two sentences for each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word and phrase we’ve learn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to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3. *Find other information on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famous disabled people on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0" lang="en-US" sz="3600" spc="-1" strike="noStrike">
                <a:solidFill>
                  <a:srgbClr val="ffff66"/>
                </a:solidFill>
                <a:latin typeface="Tahoma"/>
              </a:rPr>
              <a:t>Interne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1066680"/>
            <a:ext cx="8534160" cy="49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Warming-up exercise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3. If you were a disabled person,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what kind of help do you wa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to  get mo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4. What can we do to help thos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    </a:t>
            </a:r>
            <a:r>
              <a:rPr b="1" lang="en-US" sz="3600" spc="-1" strike="noStrike">
                <a:solidFill>
                  <a:srgbClr val="ffff66"/>
                </a:solidFill>
                <a:latin typeface="Tahoma"/>
              </a:rPr>
              <a:t>disabled people live a better lif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>
            <a:hlinkClick r:id="rId1"/>
          </p:cNvPr>
          <p:cNvPicPr/>
          <p:nvPr/>
        </p:nvPicPr>
        <p:blipFill>
          <a:blip r:embed="rId2">
            <a:lum contrast="24000"/>
          </a:blip>
          <a:stretch/>
        </p:blipFill>
        <p:spPr>
          <a:xfrm>
            <a:off x="2590920" y="1523880"/>
            <a:ext cx="3744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>
            <a:hlinkClick r:id="rId1"/>
          </p:cNvPr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514600" y="1600200"/>
            <a:ext cx="374508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916280"/>
            <a:ext cx="3166920" cy="30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>
            <a:hlinkClick r:id="rId1"/>
          </p:cNvPr>
          <p:cNvPicPr/>
          <p:nvPr/>
        </p:nvPicPr>
        <p:blipFill>
          <a:blip r:embed="rId2">
            <a:lum bright="18000"/>
          </a:blip>
          <a:srcRect l="0" t="0" r="10316" b="10297"/>
          <a:stretch/>
        </p:blipFill>
        <p:spPr>
          <a:xfrm>
            <a:off x="2819520" y="1447920"/>
            <a:ext cx="296676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hang Lingdi</cp:lastModifiedBy>
  <dcterms:modified xsi:type="dcterms:W3CDTF">2003-06-10T14:30:35Z</dcterms:modified>
  <cp:revision>159</cp:revision>
  <dc:subject/>
  <dc:title>PowerPoint Presentation</dc:title>
</cp:coreProperties>
</file>